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1C9-DB62-42C4-A0CA-35B627E1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241-78CD-47C9-B654-501F491C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F76-6D10-41B3-9CA2-CA0F14E7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DA69-19EF-4596-A428-587D5385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8E61-1722-4D46-A40D-B04AFEF9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A98A-99E7-4282-A3BB-32137239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A061-97D2-4370-B30A-BD2358AF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C75E-F8AA-4D67-835C-CBC432A0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83CF-302C-426F-A794-46CF9176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C2FE-80CC-4554-94A4-8F1D299E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8186-37D2-4601-86DD-AB21656A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1A0B-5068-45B8-8628-D6FC0074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741C-DE75-4271-BD45-25EDF083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5FA6-7BDC-4C2B-A666-A40754D1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1FAD-65DC-4A66-954E-B739018F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617A-26D5-4EF0-9F40-91E07AEC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4508-B188-45CC-B310-6DCA1033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AC08E-66EE-4106-A7C9-64E71F91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85536-FDE7-4857-B559-B03EAF8C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057D8-AA07-498F-BC47-CA6CD011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A09A2-EA5A-4F72-8CF1-C2969C49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30293-3695-47D1-893A-54390B2A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2ADA-20D5-4574-BAAE-D51428CC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87E4E-CC2C-41B9-8996-FEC9607A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88A7-E9F0-445D-98C9-6DA1293E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1CC31-928B-46C1-ACA9-EE8468F0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00E0F-95A2-4398-9060-C5977DDD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BFC8C-BA02-49DC-B100-4130DB84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D8038-A1AC-429D-9DBA-3F76EE22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E6FE0-464A-4A4A-831A-AE08CAD3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D033B-3B51-429D-907C-6418B849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8A7B6-3B77-406A-BBC9-23A7C225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07DF2-B535-45FF-A1D9-3DCCF6C6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9AE6-6C73-4522-8B06-5AE2F313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3E6B6-1290-41A9-8690-977A7D5E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5553B-3315-440A-8E96-C58CB61C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3EB97-FD14-44E4-BCDB-866AF283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047D1-EE83-4974-9695-E11EC6C8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C3B93-031D-4F5F-9A70-05A3B65C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FA563-E78C-4C72-9224-1B992F73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E515C-C8B6-40E2-BB88-D312A42A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54DBC-D25F-4A71-ADD1-24266F4B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E73FB-58E1-4EE3-9E05-3501D2AB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710A0-7A0C-4BCB-917D-9E1C4BFD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DC1-14DF-49D9-B40B-E0BB3824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623C8-577E-4C02-915B-BB467F09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D2952-0989-46A3-A4CB-98378A62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41CC0-214E-422C-8BD7-020618E8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2EF6B-2483-4ADB-A0FB-C53A2797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2C9CC-9A45-4D22-8D48-0178BD09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1AB9C-93F7-49B2-9ACB-7EB3DA3C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663A3-F5C4-4A86-BA0C-48354558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90082-1AF6-4355-8890-57B8BE68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EAEBF-19DA-4284-AD64-1F917893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392D6-C0A7-4746-A98D-ED29DC85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A6F-6543-4C75-B78F-5624ACA2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FD33F-0279-434E-B5C7-698460E5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46BA-0317-41DA-A286-4478359A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E74-AE89-4AAE-9567-097A13BD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430B-3C82-4D3D-84A3-695C7F36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D6A1-77F8-4DDA-A234-E922F4BE8E5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2258-3BDD-429B-AB81-A3E0DA1EB1F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95DD-EBAE-4192-94CE-B9BFC3F877E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2A90-06EA-47BF-9C04-47317B570CD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CCD0-C620-4CC6-9ECE-09BDC49B4A9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Ipl2.org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Monica Miran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03280" y="529920"/>
            <a:ext cx="8183520" cy="4187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9T15:35:17Z</dcterms:created>
  <dc:creator>training</dc:creator>
  <dc:description/>
  <dc:language>en-US</dc:language>
  <cp:lastModifiedBy>training</cp:lastModifiedBy>
  <dcterms:modified xsi:type="dcterms:W3CDTF">2011-07-09T16:01:51Z</dcterms:modified>
  <cp:revision>4</cp:revision>
  <dc:subject/>
  <dc:title>Ipl2.org</dc:title>
</cp:coreProperties>
</file>